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CA4D3-BBC4-48FE-B040-36118DCEC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2DFC3-75FC-4B9B-8E32-FEF571559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4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5EE36AB-790D-4237-A52E-5FCBCBA1782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C29D8E1-A243-4D52-9450-A45DA08A01B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0547D37-42E8-47BB-B894-116B2F0F072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65DA7F2-3C4C-44EE-A1ED-D0A521DAC15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25E3687-1746-4781-941C-46076556BE8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E405FA0-A645-48F4-9A3C-29AF0B7A68A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5B1C0A0-2244-4ABA-9833-942A46654CC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E82087D-FD17-4EE1-80E1-30F1EDE0BD5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7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B9AF973-D6D5-46F1-ADD7-F489E11664E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5C0D537-4D12-4BDB-A180-A5996F9A6B3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0AE45-CA10-4CEB-B75F-5F265E521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5DE959E-A2D2-4867-98C0-AB95D8FF692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7802CEF-135B-40DE-9635-6C5D5C62784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A0B8556-F5B3-4FCC-86F5-FDD590C4056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25A24D9-FD1E-4C1C-B84F-4FA0C1657D3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EA6EA94-7BE8-4CCB-A75D-433BB6CEC9A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6A4E93D-110C-4D54-BD60-1127D33C98F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BD3CA35-D7FB-4713-B263-9E0C3767EC3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D875B4E-C1FF-43CA-ABAA-D88364EB725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CBA1807-237D-4E7E-8F6C-B4D2EF287D5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C890781-E05D-4080-8DD6-EF4235AC32C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8AA09-CE0B-405A-836A-DDE9C9E87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1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9EB52B6-60B0-475C-89AB-ACCFA2A5AC9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A67361E-7B1A-48E1-BD63-9C5C191C1F2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0108EE0-5E58-432E-A984-6285F59E466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FFAE93B-2606-456E-9991-D8DD5A31179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57E8ADB-6F03-4E6E-A423-8A647F34D94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F590AB4-3D70-48D1-8322-768DCE59C4C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A377820-4974-4119-9129-39F5C05ADA3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7056A95-1C1E-4482-B5EF-F319EE0A135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BB7EDE8-4AC8-4A6A-93B6-E6A653D7EDB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33C0835-B5A3-4F1A-AE3C-180BBC97586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5454D0A-1619-4115-9208-FEB4B3A2909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C805E98-E752-4E9A-81BC-0F53B248DF7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5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E175913-604A-4230-85ED-8BA5CCCC21A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1B35BF4-085F-41A9-9866-43184C0FC45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B185B9C-26A0-4F04-88F7-1A75DD24BD3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29448D7-4B4A-4348-BEA3-8AD896948FA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E03A40E-BC1B-41E1-9430-CA3563FA9A1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1B87425-826C-4A2F-BC6A-36BC94C3CFC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6CBBD3C-FD50-42BB-8C17-92A5A85E632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550DAB2-CFE9-443B-B59B-8777A380B1E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790FAAC-92F2-44D4-B3C5-8C240C61920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E79DD79-FA13-430D-9CFE-2D9403BF728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C3DC40C-9A36-47BA-B7B6-4AB426A9FB9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2EA4E42-ABBD-404C-AA61-187D4277541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7F6B68D-2D47-42DE-8FFB-B16BCD92EF4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C040716B-CC22-4C8F-8D78-801EB4B9ED1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0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8A0155C-ED8E-405E-8D78-D0E4D20572C4}"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E49723C-AD26-4DCE-A04F-4CB70CA02B7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7DFD5B4-76EA-4061-9602-F8FD07323EF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0BE6BEE-1315-4F29-8943-A4C6022CFE3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8429FA7-A96A-497D-9B7F-17D74509997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FD3FF11-6B8E-4FF3-AA89-106F725E2B3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4B4439F-E30A-47C8-B734-45E53C49E96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285B224-F261-4B2A-9F91-B6713846A25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9CC4585-6475-4565-8E25-D1ED1F5D8F7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2C2B5C99-5EFE-42C0-BF18-AA33DD5F8704}"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B06F77AB-7BC2-49C2-ACAB-734A590824A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6566E-7849-4184-8A41-DA0029179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E41EDB5-9BAE-4BBF-AAB7-E037B81BCD6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73445D-AA5F-475D-80AF-F0AD716F50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B0BD3E-A459-40E1-A2D8-CAF1D17C5DC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BECE48-0340-43CB-AF0E-0EBAF71472C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A4B32E-7231-4EC6-BADA-E4823230BFF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B1364-CCDF-4E33-8175-DE9BE9CA6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3B15A9-4C7C-4DC7-B930-BF0124E82FB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B17C56-6055-4527-BF2A-643EE12CAD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3BF123-5CCF-4257-AA18-05E747D29D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E43FA2-CE2B-410A-9916-8C9B182A95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E71A1C-C800-4915-BA7B-AF36290520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C1D1B78-AB79-4945-8C02-ACC93696F24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8231E47-447E-4323-82D6-3A8179D1467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560B0FE-71C8-4584-98A6-A00C96A1B0E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1F0F20-3CB2-4143-A5D2-15F7E0ACA7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E9099A-3877-4865-A6CE-0BA4A11EFB4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13D6B-1700-4967-A20F-CBAB64679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3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4FCCE2-3BFB-4AAE-9E5B-06E13B659D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249F24-DEA2-47AB-B62E-B7A85BEB6C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B1E0F7-CD03-4766-B6FC-D1C2401EED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82D80D-4C5D-4238-9D94-95EA6D0AAB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13910D6-B9D6-4820-8008-4189053582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FE09B7-9224-4DFC-9725-C92A9DEFA2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59126A2-413F-42C9-9CF0-8C69119614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35649D1-3908-448F-A7E3-528BFDA69E6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6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6A47F3A-8794-44EC-BCEC-E52E4C1D36A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0BDFC7D-A8C7-4981-A045-51B52049D98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962ED-B665-415D-942B-07B1E570E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11DC37A-18CC-4320-ADD4-D30F04F1109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5BB964C-7203-4A4A-8649-B2D7354EE46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402EC9F-ED87-48B0-BE20-3BC664E3D73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1E1C821-D943-4359-8505-2169C5B09B7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E5A47F1-C8F6-4C93-8D56-59A0D0ACFE0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4FBD6D-FF76-41AD-BDFD-3C2D0901E3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341BC82-D198-46BD-82F8-65C43E7DA98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989C225-6EFF-4DB0-9004-8B87C6560A9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53EA5B8-2CD8-4E6F-B501-F4BA83D875E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42BDC04-1C93-42C2-8ECF-840026DAAED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9282E-35BD-469E-A679-C9314BD3A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0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F163628-CFA0-4B78-8E33-13C2B710CAE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495A8E7-DFE1-4649-9956-F60F06FC3CE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66D02AC-2977-4C4C-B394-68F1514CDDA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3F7148F-7634-4F91-A0B3-FB6BC0C5BAE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4F393CE-20BF-40FA-9C7E-15AE92B07B6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29E648A-D8BB-40FB-823B-17A20AF726B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D86120D-3C20-4318-8D42-FA6CA06BADD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4DFAA74-627E-4BA1-A70A-EC3B9A93566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325961E-AF1F-49D1-9292-B1C9E2A7AEE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E139B62-3A65-42F9-BD63-25AC4498126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6723F-90FB-437D-997F-6FEFA4B99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B24D237-80A0-4FE2-9A5A-56AAE7E5F57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02CBFED-905A-4D60-BD92-B41DC145F2E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4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EC56416-61E6-40DC-AD16-ABE6F9CB5C7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1287A8F-2DCE-49C4-AF71-687B6767FED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26571E3-9B16-44DD-920C-8514EC1F6B1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0135480-A506-4D2E-9D19-50514BDC758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62EA34D-2570-429A-9F73-29AE532CEC2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3C16DF6-68EE-4052-9E39-6EA79A5EEAD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6407D7E-1E9E-4F3C-8999-FAD679697D3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FBFCADB-3FB7-4121-AFD4-2E6F4AC3BF3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1"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B4DAE-CF4A-46F5-94BF-0D8716B7D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C44B685-34C9-4258-A31A-72A7F120FB7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EEDC342-20D3-468C-885F-EE216B17C1F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EB276C1-E7C9-4BD0-9A11-6C1806E9102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0513CCF-B911-44AA-9213-610EF8B54A5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0ABF9B5-A616-449C-84A9-D94C5D745B0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655D0E5-E1E9-431C-B91B-91028ED26D4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9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5249E9A-164A-46F6-A9E1-223C4CA96C7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767C203-A868-4B54-8B3B-8A1BC8E908D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6D74A76-B4B6-4A89-89AD-056D4DC7FC4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B5FBCB5-5807-4EC3-B030-82008EE0CCD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5"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48E32-925B-4BD1-9433-34F2BAB5F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BA6CE37-9EF9-4815-B75F-829EE35C035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4C0DE1C-08BA-4EE0-AE7D-D6A6BAECA0D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599A3D2-B420-45B3-8B15-BC90BF3CBEE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EC8F86E-ACEA-4B16-93A2-5DCFE0AF8BE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6D3F6F8-2E86-43DE-9973-04624BFD9F0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C18566D-0252-4BE9-B598-4F9200F8416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D439FBA-A9C5-47FA-B0FC-C5ACB8F25EF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155D67B-CB6D-4B98-AF0C-7BCBFB90262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1CB6A04-F8F6-45CE-AF1B-CA51C533ECF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B1B6D35-4006-4CCB-8870-3C98345B159D}"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 name="PlaceHolder 3"/>
          <p:cNvSpPr>
            <a:spLocks noGrp="1"/>
          </p:cNvSpPr>
          <p:nvPr>
            <p:ph type="dt" idx="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4" name="PlaceHolder 5"/>
          <p:cNvSpPr>
            <a:spLocks noGrp="1"/>
          </p:cNvSpPr>
          <p:nvPr>
            <p:ph type="sldNum" idx="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B288-F6EA-484A-BEC2-3DD91AA5207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6" name="Picture 6" descr="Interior-Overlay.png"/>
          <p:cNvPicPr/>
          <p:nvPr/>
        </p:nvPicPr>
        <p:blipFill>
          <a:blip r:embed="rId3"/>
          <a:stretch/>
        </p:blipFill>
        <p:spPr>
          <a:xfrm>
            <a:off x="0" y="0"/>
            <a:ext cx="9144000" cy="6858000"/>
          </a:xfrm>
          <a:prstGeom prst="rect">
            <a:avLst/>
          </a:prstGeom>
          <a:ln w="0">
            <a:noFill/>
          </a:ln>
        </p:spPr>
      </p:pic>
      <p:sp>
        <p:nvSpPr>
          <p:cNvPr id="3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7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79" name="PlaceHolder 3"/>
          <p:cNvSpPr>
            <a:spLocks noGrp="1"/>
          </p:cNvSpPr>
          <p:nvPr>
            <p:ph type="dt" idx="27"/>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380" name="PlaceHolder 4"/>
          <p:cNvSpPr>
            <a:spLocks noGrp="1"/>
          </p:cNvSpPr>
          <p:nvPr>
            <p:ph type="ftr" idx="28"/>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381" name="PlaceHolder 5"/>
          <p:cNvSpPr>
            <a:spLocks noGrp="1"/>
          </p:cNvSpPr>
          <p:nvPr>
            <p:ph type="sldNum" idx="29"/>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E193-33E0-4DA5-A5C2-EED798F3D7A3}"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8" name="Picture 6" descr="Interior-Overlay.png"/>
          <p:cNvPicPr/>
          <p:nvPr/>
        </p:nvPicPr>
        <p:blipFill>
          <a:blip r:embed="rId3"/>
          <a:stretch/>
        </p:blipFill>
        <p:spPr>
          <a:xfrm>
            <a:off x="0" y="0"/>
            <a:ext cx="9144000" cy="6858000"/>
          </a:xfrm>
          <a:prstGeom prst="rect">
            <a:avLst/>
          </a:prstGeom>
          <a:ln w="0">
            <a:noFill/>
          </a:ln>
        </p:spPr>
      </p:pic>
      <p:sp>
        <p:nvSpPr>
          <p:cNvPr id="4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2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21" name="PlaceHolder 3"/>
          <p:cNvSpPr>
            <a:spLocks noGrp="1"/>
          </p:cNvSpPr>
          <p:nvPr>
            <p:ph type="dt" idx="30"/>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1"/>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423" name="PlaceHolder 5"/>
          <p:cNvSpPr>
            <a:spLocks noGrp="1"/>
          </p:cNvSpPr>
          <p:nvPr>
            <p:ph type="sldNum" idx="32"/>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7D96-1652-4243-AFB0-99B54936EC13}"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0" name="Picture 6" descr="Interior-Overlay.png"/>
          <p:cNvPicPr/>
          <p:nvPr/>
        </p:nvPicPr>
        <p:blipFill>
          <a:blip r:embed="rId3"/>
          <a:stretch/>
        </p:blipFill>
        <p:spPr>
          <a:xfrm>
            <a:off x="0" y="0"/>
            <a:ext cx="9144000" cy="6858000"/>
          </a:xfrm>
          <a:prstGeom prst="rect">
            <a:avLst/>
          </a:prstGeom>
          <a:ln w="0">
            <a:noFill/>
          </a:ln>
        </p:spPr>
      </p:pic>
      <p:sp>
        <p:nvSpPr>
          <p:cNvPr id="4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6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63" name="PlaceHolder 3"/>
          <p:cNvSpPr>
            <a:spLocks noGrp="1"/>
          </p:cNvSpPr>
          <p:nvPr>
            <p:ph type="dt" idx="33"/>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4"/>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465" name="PlaceHolder 5"/>
          <p:cNvSpPr>
            <a:spLocks noGrp="1"/>
          </p:cNvSpPr>
          <p:nvPr>
            <p:ph type="sldNum" idx="35"/>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B436-04A0-4C65-9465-D123066583A9}"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2" name="Picture 6" descr="Interior-Overlay.png"/>
          <p:cNvPicPr/>
          <p:nvPr/>
        </p:nvPicPr>
        <p:blipFill>
          <a:blip r:embed="rId3"/>
          <a:stretch/>
        </p:blipFill>
        <p:spPr>
          <a:xfrm>
            <a:off x="0" y="0"/>
            <a:ext cx="9144000" cy="6858000"/>
          </a:xfrm>
          <a:prstGeom prst="rect">
            <a:avLst/>
          </a:prstGeom>
          <a:ln w="0">
            <a:noFill/>
          </a:ln>
        </p:spPr>
      </p:pic>
      <p:sp>
        <p:nvSpPr>
          <p:cNvPr id="5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50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505" name="PlaceHolder 3"/>
          <p:cNvSpPr>
            <a:spLocks noGrp="1"/>
          </p:cNvSpPr>
          <p:nvPr>
            <p:ph type="dt" idx="3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506" name="PlaceHolder 4"/>
          <p:cNvSpPr>
            <a:spLocks noGrp="1"/>
          </p:cNvSpPr>
          <p:nvPr>
            <p:ph type="ftr" idx="3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507" name="PlaceHolder 5"/>
          <p:cNvSpPr>
            <a:spLocks noGrp="1"/>
          </p:cNvSpPr>
          <p:nvPr>
            <p:ph type="sldNum" idx="3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0946-F782-498D-839A-C5C44F8A92FD}"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Cover-TextureForeGround.jpg"/>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3"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4" name="PlaceHolder 3"/>
          <p:cNvSpPr>
            <a:spLocks noGrp="1"/>
          </p:cNvSpPr>
          <p:nvPr>
            <p:ph type="dt" idx="4"/>
          </p:nvPr>
        </p:nvSpPr>
        <p:spPr>
          <a:xfrm>
            <a:off x="5987880" y="6221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1295280" y="6221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Interior-Overlay.png"/>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8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85" name="PlaceHolder 3"/>
          <p:cNvSpPr>
            <a:spLocks noGrp="1"/>
          </p:cNvSpPr>
          <p:nvPr>
            <p:ph type="dt" idx="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87" name="PlaceHolder 5"/>
          <p:cNvSpPr>
            <a:spLocks noGrp="1"/>
          </p:cNvSpPr>
          <p:nvPr>
            <p:ph type="sldNum" idx="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BE6B2-9E76-44BD-9592-2D63ED6876B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Picture 6" descr="Interior-Overlay.pn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2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27" name="PlaceHolder 3"/>
          <p:cNvSpPr>
            <a:spLocks noGrp="1"/>
          </p:cNvSpPr>
          <p:nvPr>
            <p:ph type="dt" idx="9"/>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0"/>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129" name="PlaceHolder 5"/>
          <p:cNvSpPr>
            <a:spLocks noGrp="1"/>
          </p:cNvSpPr>
          <p:nvPr>
            <p:ph type="sldNum" idx="11"/>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4F86D-E005-4CC1-BF8C-6EC709C32212}"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6" descr="Interior-Overlay.png"/>
          <p:cNvPicPr/>
          <p:nvPr/>
        </p:nvPicPr>
        <p:blipFill>
          <a:blip r:embed="rId3"/>
          <a:stretch/>
        </p:blipFill>
        <p:spPr>
          <a:xfrm>
            <a:off x="0" y="0"/>
            <a:ext cx="9144000" cy="6858000"/>
          </a:xfrm>
          <a:prstGeom prst="rect">
            <a:avLst/>
          </a:prstGeom>
          <a:ln w="0">
            <a:noFill/>
          </a:ln>
        </p:spPr>
      </p:pic>
      <p:sp>
        <p:nvSpPr>
          <p:cNvPr id="1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6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69" name="PlaceHolder 3"/>
          <p:cNvSpPr>
            <a:spLocks noGrp="1"/>
          </p:cNvSpPr>
          <p:nvPr>
            <p:ph type="dt" idx="12"/>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3"/>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171" name="PlaceHolder 5"/>
          <p:cNvSpPr>
            <a:spLocks noGrp="1"/>
          </p:cNvSpPr>
          <p:nvPr>
            <p:ph type="sldNum" idx="14"/>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0BC5-3302-4676-952B-EF25F2364208}"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8" name="Picture 6" descr="Interior-Overlay.png"/>
          <p:cNvPicPr/>
          <p:nvPr/>
        </p:nvPicPr>
        <p:blipFill>
          <a:blip r:embed="rId3"/>
          <a:stretch/>
        </p:blipFill>
        <p:spPr>
          <a:xfrm>
            <a:off x="0" y="0"/>
            <a:ext cx="9144000" cy="6858000"/>
          </a:xfrm>
          <a:prstGeom prst="rect">
            <a:avLst/>
          </a:prstGeom>
          <a:ln w="0">
            <a:noFill/>
          </a:ln>
        </p:spPr>
      </p:pic>
      <p:sp>
        <p:nvSpPr>
          <p:cNvPr id="2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1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11" name="PlaceHolder 3"/>
          <p:cNvSpPr>
            <a:spLocks noGrp="1"/>
          </p:cNvSpPr>
          <p:nvPr>
            <p:ph type="dt" idx="15"/>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6"/>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213" name="PlaceHolder 5"/>
          <p:cNvSpPr>
            <a:spLocks noGrp="1"/>
          </p:cNvSpPr>
          <p:nvPr>
            <p:ph type="sldNum" idx="17"/>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9A01-9D48-4EDC-A3FB-6931C2FC635C}"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6" descr="Interior-Overlay.png"/>
          <p:cNvPicPr/>
          <p:nvPr/>
        </p:nvPicPr>
        <p:blipFill>
          <a:blip r:embed="rId3"/>
          <a:stretch/>
        </p:blipFill>
        <p:spPr>
          <a:xfrm>
            <a:off x="0" y="0"/>
            <a:ext cx="9144000" cy="6858000"/>
          </a:xfrm>
          <a:prstGeom prst="rect">
            <a:avLst/>
          </a:prstGeom>
          <a:ln w="0">
            <a:noFill/>
          </a:ln>
        </p:spPr>
      </p:pic>
      <p:sp>
        <p:nvSpPr>
          <p:cNvPr id="2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5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53" name="PlaceHolder 3"/>
          <p:cNvSpPr>
            <a:spLocks noGrp="1"/>
          </p:cNvSpPr>
          <p:nvPr>
            <p:ph type="dt" idx="18"/>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254" name="PlaceHolder 4"/>
          <p:cNvSpPr>
            <a:spLocks noGrp="1"/>
          </p:cNvSpPr>
          <p:nvPr>
            <p:ph type="ftr" idx="19"/>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255" name="PlaceHolder 5"/>
          <p:cNvSpPr>
            <a:spLocks noGrp="1"/>
          </p:cNvSpPr>
          <p:nvPr>
            <p:ph type="sldNum" idx="20"/>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B45D-B6EC-4B0E-820D-A81807D074D9}"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2" name="Picture 6" descr="Interior-Overlay.png"/>
          <p:cNvPicPr/>
          <p:nvPr/>
        </p:nvPicPr>
        <p:blipFill>
          <a:blip r:embed="rId3"/>
          <a:stretch/>
        </p:blipFill>
        <p:spPr>
          <a:xfrm>
            <a:off x="0" y="0"/>
            <a:ext cx="9144000" cy="6858000"/>
          </a:xfrm>
          <a:prstGeom prst="rect">
            <a:avLst/>
          </a:prstGeom>
          <a:ln w="0">
            <a:noFill/>
          </a:ln>
        </p:spPr>
      </p:pic>
      <p:sp>
        <p:nvSpPr>
          <p:cNvPr id="2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9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95" name="PlaceHolder 3"/>
          <p:cNvSpPr>
            <a:spLocks noGrp="1"/>
          </p:cNvSpPr>
          <p:nvPr>
            <p:ph type="dt" idx="2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296" name="PlaceHolder 4"/>
          <p:cNvSpPr>
            <a:spLocks noGrp="1"/>
          </p:cNvSpPr>
          <p:nvPr>
            <p:ph type="ftr" idx="2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297" name="PlaceHolder 5"/>
          <p:cNvSpPr>
            <a:spLocks noGrp="1"/>
          </p:cNvSpPr>
          <p:nvPr>
            <p:ph type="sldNum" idx="2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2F82-5C5D-4E9A-A684-4784868CF1C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4" name="Picture 6" descr="Interior-Overlay.png"/>
          <p:cNvPicPr/>
          <p:nvPr/>
        </p:nvPicPr>
        <p:blipFill>
          <a:blip r:embed="rId3"/>
          <a:stretch/>
        </p:blipFill>
        <p:spPr>
          <a:xfrm>
            <a:off x="0" y="0"/>
            <a:ext cx="9144000" cy="6858000"/>
          </a:xfrm>
          <a:prstGeom prst="rect">
            <a:avLst/>
          </a:prstGeom>
          <a:ln w="0">
            <a:noFill/>
          </a:ln>
        </p:spPr>
      </p:pic>
      <p:sp>
        <p:nvSpPr>
          <p:cNvPr id="3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3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37" name="PlaceHolder 3"/>
          <p:cNvSpPr>
            <a:spLocks noGrp="1"/>
          </p:cNvSpPr>
          <p:nvPr>
            <p:ph type="dt" idx="24"/>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338" name="PlaceHolder 4"/>
          <p:cNvSpPr>
            <a:spLocks noGrp="1"/>
          </p:cNvSpPr>
          <p:nvPr>
            <p:ph type="ftr" idx="25"/>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339" name="PlaceHolder 5"/>
          <p:cNvSpPr>
            <a:spLocks noGrp="1"/>
          </p:cNvSpPr>
          <p:nvPr>
            <p:ph type="sldNum" idx="26"/>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255A-AB42-44C1-9638-7947055066F9}"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youtube.com/watch?v=D8q-sTsOu3M&amp;feature=related"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youtube.com/watch?v=kr7djGY1fhA"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youtube.com/watch?v=_krbxXawoAU&amp;feature=related" TargetMode="Externa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Title 1" descr=""/>
          <p:cNvPicPr/>
          <p:nvPr/>
        </p:nvPicPr>
        <p:blipFill>
          <a:blip r:embed="rId1"/>
          <a:stretch/>
        </p:blipFill>
        <p:spPr>
          <a:xfrm>
            <a:off x="1596960" y="384120"/>
            <a:ext cx="7096320" cy="1206720"/>
          </a:xfrm>
          <a:prstGeom prst="rect">
            <a:avLst/>
          </a:prstGeom>
          <a:ln w="0">
            <a:noFill/>
          </a:ln>
        </p:spPr>
      </p:pic>
      <p:pic>
        <p:nvPicPr>
          <p:cNvPr id="545" name="Subtitle 2" descr=""/>
          <p:cNvPicPr/>
          <p:nvPr/>
        </p:nvPicPr>
        <p:blipFill>
          <a:blip r:embed="rId2"/>
          <a:stretch/>
        </p:blipFill>
        <p:spPr>
          <a:xfrm>
            <a:off x="1158840" y="3638520"/>
            <a:ext cx="7089840" cy="1762200"/>
          </a:xfrm>
          <a:prstGeom prst="rect">
            <a:avLst/>
          </a:prstGeom>
          <a:ln w="0">
            <a:noFill/>
          </a:ln>
        </p:spPr>
      </p:pic>
      <p:pic>
        <p:nvPicPr>
          <p:cNvPr id="546" name="Picture 3" descr="Screen Shot 2011-12-03 at 11.16.03 PM.png"/>
          <p:cNvPicPr/>
          <p:nvPr/>
        </p:nvPicPr>
        <p:blipFill>
          <a:blip r:embed="rId3"/>
          <a:stretch/>
        </p:blipFill>
        <p:spPr>
          <a:xfrm>
            <a:off x="1355760" y="4286160"/>
            <a:ext cx="3505320" cy="2222640"/>
          </a:xfrm>
          <a:prstGeom prst="rect">
            <a:avLst/>
          </a:prstGeom>
          <a:ln w="0">
            <a:noFill/>
          </a:ln>
        </p:spPr>
      </p:pic>
      <p:pic>
        <p:nvPicPr>
          <p:cNvPr id="547" name="Picture 5" descr="http://t0.gstatic.com/images?q=tbn:ANd9GcTOYa6Ihg6dEVmRxEQCG4qu6PxLVGDdTfs2oWwuDlhBGOUkIwNSOA"/>
          <p:cNvPicPr/>
          <p:nvPr/>
        </p:nvPicPr>
        <p:blipFill>
          <a:blip r:embed="rId4"/>
          <a:stretch/>
        </p:blipFill>
        <p:spPr>
          <a:xfrm>
            <a:off x="5386320" y="4286160"/>
            <a:ext cx="3301920" cy="2222640"/>
          </a:xfrm>
          <a:prstGeom prst="rect">
            <a:avLst/>
          </a:prstGeom>
          <a:ln w="0">
            <a:noFill/>
          </a:ln>
        </p:spPr>
      </p:pic>
      <p:sp>
        <p:nvSpPr>
          <p:cNvPr id="548" name="TextBox 3"/>
          <p:cNvSpPr/>
          <p:nvPr/>
        </p:nvSpPr>
        <p:spPr>
          <a:xfrm>
            <a:off x="2556000" y="19954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pic>
        <p:nvPicPr>
          <p:cNvPr id="549" name="06 Paradise By the Dashboard Light.m4a" descr=""/>
          <p:cNvPicPr/>
          <p:nvPr/>
        </p:nvPicPr>
        <p:blipFill>
          <a:blip r:embed="rId5"/>
          <a:stretch/>
        </p:blipFill>
        <p:spPr>
          <a:xfrm>
            <a:off x="1195560" y="1589040"/>
            <a:ext cx="812520" cy="81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Intro to the Automobile </a:t>
            </a:r>
            <a:endParaRPr b="1" lang="en-US" sz="4800" spc="-1" strike="noStrike">
              <a:solidFill>
                <a:srgbClr val="404040"/>
              </a:solidFill>
              <a:latin typeface="Candara"/>
            </a:endParaRPr>
          </a:p>
        </p:txBody>
      </p:sp>
      <p:sp>
        <p:nvSpPr>
          <p:cNvPr id="551" name=""/>
          <p:cNvSpPr txBox="1"/>
          <p:nvPr/>
        </p:nvSpPr>
        <p:spPr>
          <a:xfrm>
            <a:off x="1088640" y="1801800"/>
            <a:ext cx="7272360" cy="4324320"/>
          </a:xfrm>
          <a:prstGeom prst="rect">
            <a:avLst/>
          </a:prstGeom>
          <a:noFill/>
          <a:ln w="0">
            <a:noFill/>
          </a:ln>
        </p:spPr>
        <p:txBody>
          <a:bodyPr anchor="t">
            <a:normAutofit fontScale="97000"/>
          </a:bodyPr>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Brief description of the history of automobiles and automobile safety talk about who developed the first automobile, as we know it today.</a:t>
            </a:r>
            <a:endParaRPr b="0" lang="en-US" sz="1800" spc="-1" strike="noStrike">
              <a:solidFill>
                <a:srgbClr val="404040"/>
              </a:solidFill>
              <a:latin typeface="Candara"/>
            </a:endParaRPr>
          </a:p>
          <a:p>
            <a:pPr lvl="2" marL="834480" indent="-27396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1886:  Karl Benz designs, creates and patents the first gasoline engine in a car.   Powered by an internal combustion three-wheeled engine and a chassis. (Germany)</a:t>
            </a:r>
            <a:endParaRPr b="0" lang="en-US" sz="1800" spc="-1" strike="noStrike">
              <a:solidFill>
                <a:srgbClr val="404040"/>
              </a:solidFill>
              <a:latin typeface="Candara"/>
            </a:endParaRPr>
          </a:p>
          <a:p>
            <a:pPr lvl="2" marL="834480" indent="-27396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1886: Gottlieb Wilhelm Daimler created first four wheeled automobile with chassis and gas engine. (Germany)</a:t>
            </a:r>
            <a:endParaRPr b="0" lang="en-US" sz="1800" spc="-1" strike="noStrike">
              <a:solidFill>
                <a:srgbClr val="404040"/>
              </a:solidFill>
              <a:latin typeface="Candara"/>
            </a:endParaRPr>
          </a:p>
          <a:p>
            <a:pPr lvl="2" marL="834480" indent="-27396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1886-1895:  George Baldwin Selden patents the first gasoline/combined combustion engine with a chassis.  Patent # 549,160.  He never manufactures this design but is paid royalties on the patent. (United States) </a:t>
            </a:r>
            <a:endParaRPr b="0" lang="en-US" sz="1800" spc="-1" strike="noStrike">
              <a:solidFill>
                <a:srgbClr val="404040"/>
              </a:solidFill>
              <a:latin typeface="Candara"/>
            </a:endParaRPr>
          </a:p>
          <a:p>
            <a:pPr lvl="2" marL="834480" indent="-27396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1893:  Duryea Brothers setup the first American automobile manufacturing company.</a:t>
            </a:r>
            <a:endParaRPr b="0" lang="en-US" sz="1800" spc="-1" strike="noStrike">
              <a:solidFill>
                <a:srgbClr val="404040"/>
              </a:solidFill>
              <a:latin typeface="Candara"/>
            </a:endParaRPr>
          </a:p>
          <a:p>
            <a:pPr lvl="2" marL="834480" indent="-27396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a:p>
            <a:pPr lvl="2" marL="834480" indent="-27396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a:p>
            <a:pPr lvl="1" marL="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Henry Ford &amp; his Impact</a:t>
            </a:r>
            <a:endParaRPr b="1" lang="en-US" sz="4800" spc="-1" strike="noStrike">
              <a:solidFill>
                <a:srgbClr val="404040"/>
              </a:solidFill>
              <a:latin typeface="Candara"/>
            </a:endParaRPr>
          </a:p>
        </p:txBody>
      </p:sp>
      <p:sp>
        <p:nvSpPr>
          <p:cNvPr id="553" name=""/>
          <p:cNvSpPr txBox="1"/>
          <p:nvPr/>
        </p:nvSpPr>
        <p:spPr>
          <a:xfrm>
            <a:off x="952200" y="1801800"/>
            <a:ext cx="7272360" cy="4324320"/>
          </a:xfrm>
          <a:prstGeom prst="rect">
            <a:avLst/>
          </a:prstGeom>
          <a:noFill/>
          <a:ln w="0">
            <a:noFill/>
          </a:ln>
        </p:spPr>
        <p:txBody>
          <a:bodyPr anchor="t">
            <a:normAutofit/>
          </a:bodyPr>
          <a:p>
            <a:pPr lvl="1"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The impact of Henry Ford’s production innovations and what it meant in society and the number of cars on the road.</a:t>
            </a:r>
            <a:endParaRPr b="0" lang="en-US" sz="1600" spc="-1" strike="noStrike">
              <a:solidFill>
                <a:srgbClr val="404040"/>
              </a:solidFill>
              <a:latin typeface="Candara"/>
            </a:endParaRPr>
          </a:p>
          <a:p>
            <a:pPr lvl="1" marL="282600" indent="-2826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Henry Ford starting developing his own models of automobiles from 1896 on.  In 1908 he developed the Model T, which had some innovations that other car manufacturers quickly copied, such as an enclosed chassis and riding compartment and the steering wheel on the left hand side.  By 1920 the majority of Americans learned to drive on the Model T.</a:t>
            </a:r>
            <a:endParaRPr b="0" lang="en-US" sz="1600" spc="-1" strike="noStrike">
              <a:solidFill>
                <a:srgbClr val="404040"/>
              </a:solidFill>
              <a:latin typeface="Candara"/>
            </a:endParaRPr>
          </a:p>
          <a:p>
            <a:pPr lvl="1" marL="282600" indent="-2826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In 1913 ford introduced the moving assembly belts into his plant, which enabled an enormous increase in production.  This made the price and availability of the vehicle feasible for most people in the United States of America.  By 1918 half of all the vehicles in the United States were Model T’s.</a:t>
            </a:r>
            <a:endParaRPr b="0" lang="en-US" sz="1600" spc="-1" strike="noStrike">
              <a:solidFill>
                <a:srgbClr val="404040"/>
              </a:solidFill>
              <a:latin typeface="Candara"/>
            </a:endParaRPr>
          </a:p>
          <a:p>
            <a:pPr lvl="1" marL="282600" indent="-2826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ndara"/>
            </a:endParaRPr>
          </a:p>
        </p:txBody>
      </p:sp>
      <p:pic>
        <p:nvPicPr>
          <p:cNvPr id="554" name="Picture 3" descr="Screen Shot 2011-12-03 at 11.20.58 PM.png"/>
          <p:cNvPicPr/>
          <p:nvPr/>
        </p:nvPicPr>
        <p:blipFill>
          <a:blip r:embed="rId1"/>
          <a:stretch/>
        </p:blipFill>
        <p:spPr>
          <a:xfrm>
            <a:off x="635040" y="4883040"/>
            <a:ext cx="2590920" cy="1841760"/>
          </a:xfrm>
          <a:prstGeom prst="rect">
            <a:avLst/>
          </a:prstGeom>
          <a:ln w="0">
            <a:noFill/>
          </a:ln>
        </p:spPr>
      </p:pic>
      <p:pic>
        <p:nvPicPr>
          <p:cNvPr id="555" name="Picture 4" descr="Screen Shot 2011-12-03 at 11.23.48 PM.png"/>
          <p:cNvPicPr/>
          <p:nvPr/>
        </p:nvPicPr>
        <p:blipFill>
          <a:blip r:embed="rId2"/>
          <a:stretch/>
        </p:blipFill>
        <p:spPr>
          <a:xfrm>
            <a:off x="6365880" y="4629240"/>
            <a:ext cx="2430360" cy="20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360080" y="725040"/>
            <a:ext cx="7272360" cy="692280"/>
          </a:xfrm>
          <a:prstGeom prst="rect">
            <a:avLst/>
          </a:prstGeom>
          <a:noFill/>
          <a:ln w="0">
            <a:noFill/>
          </a:ln>
        </p:spPr>
        <p:txBody>
          <a:bodyPr anchor="ctr">
            <a:noAutofit/>
          </a:bodyPr>
          <a:p>
            <a:pPr marL="343080"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ndara"/>
              </a:rPr>
              <a:t>History of Automobile Safety</a:t>
            </a:r>
            <a:br>
              <a:rPr sz="4000"/>
            </a:br>
            <a:endParaRPr b="1" lang="en-US" sz="4000" spc="-1" strike="noStrike">
              <a:solidFill>
                <a:srgbClr val="404040"/>
              </a:solidFill>
              <a:latin typeface="Candara"/>
            </a:endParaRPr>
          </a:p>
        </p:txBody>
      </p:sp>
      <p:sp>
        <p:nvSpPr>
          <p:cNvPr id="557" name=""/>
          <p:cNvSpPr txBox="1"/>
          <p:nvPr/>
        </p:nvSpPr>
        <p:spPr>
          <a:xfrm>
            <a:off x="1088640" y="1801800"/>
            <a:ext cx="7272360" cy="4324320"/>
          </a:xfrm>
          <a:prstGeom prst="rect">
            <a:avLst/>
          </a:prstGeom>
          <a:noFill/>
          <a:ln w="0">
            <a:noFill/>
          </a:ln>
        </p:spPr>
        <p:txBody>
          <a:bodyPr anchor="t">
            <a:normAutofit/>
          </a:bodyPr>
          <a:p>
            <a:pPr lvl="1"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Although safety belts had been used in some crude fashion or another, they really started gaining ground and recognition in the 1930’s.  Dr. Claire Straith and Dr. C.J. Strickland brought the idea of safer road conditions with the use of seat belts and padded dashboards through the Automobile Safety League of America.</a:t>
            </a:r>
            <a:endParaRPr b="0" lang="en-US" sz="1600" spc="-1" strike="noStrike">
              <a:solidFill>
                <a:srgbClr val="404040"/>
              </a:solidFill>
              <a:latin typeface="Candara"/>
            </a:endParaRPr>
          </a:p>
          <a:p>
            <a:pPr lvl="1"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In 1937 Chrysler, Dodge and others started improving the safety of their vehicles such as smooth dashboards with recessed controls and heavily padded front seats for rear passengers.</a:t>
            </a:r>
            <a:endParaRPr b="0" lang="en-US" sz="1600" spc="-1" strike="noStrike">
              <a:solidFill>
                <a:srgbClr val="404040"/>
              </a:solidFill>
              <a:latin typeface="Candara"/>
            </a:endParaRPr>
          </a:p>
          <a:p>
            <a:pPr lvl="1"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In 1966 the United States of America established the Department of Transportation (DOT) and shortly thereafter established the National Transportation Board (NTB) in 1967.</a:t>
            </a:r>
            <a:endParaRPr b="0" lang="en-US" sz="1600" spc="-1" strike="noStrike">
              <a:solidFill>
                <a:srgbClr val="404040"/>
              </a:solidFill>
              <a:latin typeface="Candara"/>
            </a:endParaRPr>
          </a:p>
          <a:p>
            <a:pPr lvl="1"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Statistics of injuries and fatalities going down as safety becomes more and more of a priority.</a:t>
            </a:r>
            <a:endParaRPr b="0" lang="en-US" sz="1600" spc="-1" strike="noStrike">
              <a:solidFill>
                <a:srgbClr val="404040"/>
              </a:solidFill>
              <a:latin typeface="Candara"/>
            </a:endParaRPr>
          </a:p>
          <a:p>
            <a:pPr lvl="1"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p:txBody>
      </p:sp>
      <p:pic>
        <p:nvPicPr>
          <p:cNvPr id="558" name="Picture 4" descr="http://t2.gstatic.com/images?q=tbn:ANd9GcS32wo_DbnoDU9xq7fLqzD8aXFvACIBGUpPRBpa60S8skH3qfpq"/>
          <p:cNvPicPr/>
          <p:nvPr/>
        </p:nvPicPr>
        <p:blipFill>
          <a:blip r:embed="rId1"/>
          <a:stretch/>
        </p:blipFill>
        <p:spPr>
          <a:xfrm>
            <a:off x="7415280" y="5526000"/>
            <a:ext cx="1600200" cy="120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Activity #1</a:t>
            </a:r>
            <a:endParaRPr b="1" lang="en-US" sz="4800" spc="-1" strike="noStrike">
              <a:solidFill>
                <a:srgbClr val="404040"/>
              </a:solidFill>
              <a:latin typeface="Candara"/>
            </a:endParaRPr>
          </a:p>
        </p:txBody>
      </p:sp>
      <p:sp>
        <p:nvSpPr>
          <p:cNvPr id="560"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Please fill out the Driver Questionaire about previous driving infractions whether they be accidents or tickets.</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Educational video on road sign safety.</a:t>
            </a:r>
            <a:endParaRPr b="0" lang="en-US" sz="24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dd7e0e"/>
                </a:solidFill>
                <a:uFillTx/>
                <a:latin typeface="Candara"/>
                <a:hlinkClick r:id="rId1"/>
              </a:rPr>
              <a:t>http://www.youtube.com/watch?v=D8q-sTsOu3M&amp;feature=related</a:t>
            </a:r>
            <a:r>
              <a:rPr b="0" lang="en-US" sz="2200" spc="-1" strike="noStrike">
                <a:solidFill>
                  <a:srgbClr val="404040"/>
                </a:solidFill>
                <a:latin typeface="Candara"/>
              </a:rPr>
              <a:t> </a:t>
            </a:r>
            <a:endParaRPr b="0" lang="en-US" sz="22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Activity #2</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62"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tudents will diagram what the dashboard on their personal vehicles look like.</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d7e0e"/>
                </a:solidFill>
                <a:uFillTx/>
                <a:latin typeface="Candara"/>
                <a:hlinkClick r:id="rId1"/>
              </a:rPr>
              <a:t>http://www.youtube.com/watch?v=kr7djGY1fhA</a:t>
            </a:r>
            <a:endParaRPr b="0" lang="en-US" sz="2400" spc="-1" strike="noStrike">
              <a:solidFill>
                <a:srgbClr val="404040"/>
              </a:solidFill>
              <a:latin typeface="Candara"/>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osing Video</a:t>
            </a:r>
            <a:endParaRPr b="1" lang="en-US" sz="4800" spc="-1" strike="noStrike">
              <a:solidFill>
                <a:srgbClr val="404040"/>
              </a:solidFill>
              <a:latin typeface="Candara"/>
            </a:endParaRPr>
          </a:p>
        </p:txBody>
      </p:sp>
      <p:sp>
        <p:nvSpPr>
          <p:cNvPr id="564"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Examples of what can happen when the rules of the road are not followed.</a:t>
            </a:r>
            <a:endParaRPr b="0" lang="en-US" sz="24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dd7e0e"/>
                </a:solidFill>
                <a:uFillTx/>
                <a:latin typeface="Candara"/>
                <a:hlinkClick r:id="rId1"/>
              </a:rPr>
              <a:t>http://www.youtube.com/watch?v=_krbxXawoAU&amp;feature=related</a:t>
            </a:r>
            <a:endParaRPr b="0" lang="en-US" sz="22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02:45:57Z</dcterms:created>
  <dc:creator>Kimberlee Gautier</dc:creator>
  <dc:description/>
  <dc:language>en-US</dc:language>
  <cp:lastModifiedBy>Kimberlee Gautier</cp:lastModifiedBy>
  <dcterms:modified xsi:type="dcterms:W3CDTF">2011-12-07T01:36:29Z</dcterms:modified>
  <cp:revision>23</cp:revision>
  <dc:subject/>
  <dc:title>Driver’s Education</dc:title>
</cp:coreProperties>
</file>